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65F-8D93-45E4-8986-C7B004BC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492-AD94-48D7-88F1-3F858E59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1BC-C1F1-40EF-A91F-F2F61DFA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71C-62B4-43BF-AC38-964F4559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C8AD-F302-4DD7-B747-BEE4032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EA6A-BE65-4EFE-B3CF-76C6622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59FC-B4F3-4C7F-9824-370C9F5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3D57-2487-4B5F-B99F-A7FA4DC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EB3-3424-406D-8F49-5F1C203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B433-4317-42BB-8FEC-7D7EF73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EC8-1620-439B-BB02-2371772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6B0-CF90-4CB8-A9C7-0B4EDC3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64CB-5032-4991-BF23-E9DBA748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469A-92A9-4F15-BA90-C48CE92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F15-FDB5-434D-9213-34DB3ED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5FF6-A842-41B2-9357-393A3AC7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CD48-E038-4D1E-B766-839733EC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058-8391-4303-8A8F-C600CF6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22B-E62E-4B5B-BE9F-0C913FE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C1D-B3D7-4590-9EE0-14FDE2A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318-2CFF-4A9E-BE73-3B5645ED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670-4812-4ADC-81D6-8603803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5F8-B2BB-471B-84A0-18A75C9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D32-5D0A-41DE-8BCC-1C36422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B031-0EDE-4025-BF56-1256838493A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967-27FD-43FD-B33C-BCACAA59961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Arial"/>
              </a:rPr>
              <a:t>Evaluare iniţial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ealizată 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f. Carmen Băi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913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24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5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f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(val_iniţială;val_finală;pas_actualiz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t_instrucţiu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1 – Se iniţializează contorul cu valoarea iniţia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2 – Se evaluează condiţia(dacă contorul a ajuns la valoarea final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3 – Dacă condiţia este adevărată se execută setul de instrucţiuni subordonat, se actualizează contorul şi se revine la pasul 2. Dacă ea este falsă se iese din structura repetitiv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48604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5623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3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4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Întrebări matematic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m verificăm paritatea unui numă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m se află cel mai mare divizor dintre două num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 înţelegem printr-un număr pri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Arial"/>
              </a:rPr>
              <a:t>Evaluare iniţial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ealizată 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f. Carmen Băi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Alegeţi variantele corect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are sunt instrucţiunile repet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..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913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40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8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2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condiţ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t_instrucţiu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s 1 – Se evaluează condiţ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s 2 – Dacă ea este adevărată se execută setul de instrucţiuni subordonat şi se revine la pasul 1. Dacă ea este falsă se iese din structura repetitiv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94324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36478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0060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1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 .. 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t_instrucţiu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whi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condiţ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1 – Se execută setul de instrucţiuni subordonat şi se evaluează condiţ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2 – Dacă ea este adevărată se revine la pasul 1. Dacă ea este falsă se iese din structura repetitiv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5623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3:40:25Z</dcterms:created>
  <dc:creator>curs</dc:creator>
  <dc:description/>
  <dc:language>en-US</dc:language>
  <cp:lastModifiedBy>curs</cp:lastModifiedBy>
  <dcterms:modified xsi:type="dcterms:W3CDTF">2010-12-03T16:27:06Z</dcterms:modified>
  <cp:revision>8</cp:revision>
  <dc:subject/>
  <dc:title>Evaluare iniţială</dc:title>
</cp:coreProperties>
</file>